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956C-4A67-4468-8415-F7670745A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A699-75E2-4EDC-9C2A-098738D5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A385-E60A-44B3-8E2B-9D0BCE057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4B5B-95E1-44B1-B34E-E810759A9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4F43-B9B6-441C-AC39-521201F9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429C-1029-48D8-B316-7BC45DDE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1386-8E0D-4446-AAED-C0345654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8E9A-C9EE-4E3D-B396-06010A54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C84D-755E-4F31-96F9-16097A6F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B9E1-0D5F-4C31-B2B0-50D5FC2B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452D-D57B-4728-A1B4-C1122B33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2853-FCA4-431B-9B1C-F5CA1583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520B-525B-40D2-A057-EB3447234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: Solve problems by looking for a patte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228600" y="1371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506960" y="1413000"/>
            <a:ext cx="370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worked: 3  4  6 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 worked:          1hr  2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5"/>
          <p:cNvSpPr/>
          <p:nvPr/>
        </p:nvSpPr>
        <p:spPr>
          <a:xfrm>
            <a:off x="42670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6"/>
          <p:cNvSpPr/>
          <p:nvPr/>
        </p:nvSpPr>
        <p:spPr>
          <a:xfrm>
            <a:off x="48769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28600" y="1371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506960" y="141300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worked: 3  4  6  9  13 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 worked:          1hr  2hr      3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42670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>
            <a:off x="48769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571500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228600" y="1371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506600" y="1413000"/>
            <a:ext cx="543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worked: 3  4  6  9  13  18  24  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 worked:          1hr  2hr      3hr      4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5"/>
          <p:cNvSpPr/>
          <p:nvPr/>
        </p:nvSpPr>
        <p:spPr>
          <a:xfrm>
            <a:off x="42670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6"/>
          <p:cNvSpPr/>
          <p:nvPr/>
        </p:nvSpPr>
        <p:spPr>
          <a:xfrm>
            <a:off x="48769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7"/>
          <p:cNvSpPr/>
          <p:nvPr/>
        </p:nvSpPr>
        <p:spPr>
          <a:xfrm>
            <a:off x="571500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8"/>
          <p:cNvSpPr/>
          <p:nvPr/>
        </p:nvSpPr>
        <p:spPr>
          <a:xfrm>
            <a:off x="662940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28600" y="1371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506600" y="1413000"/>
            <a:ext cx="5433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worked: 3  4  6  9  13  18  24  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 worked:          1hr  2hr      3hr      4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+ 4 + 6 + 9 + 13 + 18 + 24 + 31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5"/>
          <p:cNvSpPr/>
          <p:nvPr/>
        </p:nvSpPr>
        <p:spPr>
          <a:xfrm>
            <a:off x="42670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6"/>
          <p:cNvSpPr/>
          <p:nvPr/>
        </p:nvSpPr>
        <p:spPr>
          <a:xfrm>
            <a:off x="48769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7"/>
          <p:cNvSpPr/>
          <p:nvPr/>
        </p:nvSpPr>
        <p:spPr>
          <a:xfrm>
            <a:off x="571500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8"/>
          <p:cNvSpPr/>
          <p:nvPr/>
        </p:nvSpPr>
        <p:spPr>
          <a:xfrm>
            <a:off x="662940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1506600" y="1413000"/>
            <a:ext cx="5433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worked: 3  4  6  9  13  18  24  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 worked:          1hr  2hr      3hr      4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+ 4 + 6 + 9 + 13 + 18 + 24 + 31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8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28600" y="1371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5"/>
          <p:cNvSpPr/>
          <p:nvPr/>
        </p:nvSpPr>
        <p:spPr>
          <a:xfrm>
            <a:off x="42670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6"/>
          <p:cNvSpPr/>
          <p:nvPr/>
        </p:nvSpPr>
        <p:spPr>
          <a:xfrm>
            <a:off x="48769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7"/>
          <p:cNvSpPr/>
          <p:nvPr/>
        </p:nvSpPr>
        <p:spPr>
          <a:xfrm>
            <a:off x="571500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8"/>
          <p:cNvSpPr/>
          <p:nvPr/>
        </p:nvSpPr>
        <p:spPr>
          <a:xfrm>
            <a:off x="662940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506600" y="1413000"/>
            <a:ext cx="5433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worked: 3  4  6  9  13  18  24  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 worked:          1hr  2hr      3hr      4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+ 4 + 6 + 9 + 13 + 18 + 24 + 31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8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228600" y="1371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42670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48769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7"/>
          <p:cNvSpPr/>
          <p:nvPr/>
        </p:nvSpPr>
        <p:spPr>
          <a:xfrm>
            <a:off x="571500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662940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228600" y="41148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1523880" y="4114800"/>
            <a:ext cx="62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the number of problems worked each half hour follow the patter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2821320" y="3124080"/>
            <a:ext cx="284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, 48, 35, 24, . . 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80880" y="1981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a rule to find the successive terms in the patte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2821320" y="3124080"/>
            <a:ext cx="284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, 48, 35, 24, . . 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80880" y="1981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a rule to find the successive terms in the patte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066680" y="39625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The number decreased by 15, then 13, then 11, so the next number should decrease by 9 and then by 7. The number subtracted decreases by two each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80880" y="19810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ttern of numbers, 1, 1, 2, 3, 5, 8, . . . . ., is called the Fibonacci sequence. The terms of the sequence are called the Fibonacci numbers. List the first ten Fibonacci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380880" y="19810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ttern of numbers, 1, 1, 2, 3, 5, 8, . . . . ., is called the Fibonacci sequence. The terms of the sequence are called the Fibonacci numbers. List the first ten Fibonacci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058840" y="3505320"/>
            <a:ext cx="36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1, 1, 2, 3, 5, 8, 13, 21, 34, 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228600" y="137160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 was trying to finish all her math homework on Friday. She did 3 problems the first 30 minutes, 4 problems the next 30 minutes, 6 problems the next 30 minutes, 9 problems the next 30 minutes, and so forth. If she continues to work at this rate, how many problems will she have done in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380880" y="19810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 pattern for the following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 3, 5, 8, 11, 15, 19, . . 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80880" y="19810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 pattern for the following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 3, 5, 8, 11, 15, 19, . . 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291680" y="3733920"/>
            <a:ext cx="54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Pattern: +2, +2, +3, +3, +4, +4, +5, +5, . . 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380880" y="19810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number that should be in the blank sp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 24, 2, 23, 3, 22, 4, . . . . . . 12, 13, 13, 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795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380880" y="198108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number that should be in the blank s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, 4, 10, 20, 35, 56, __, __, 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80880" y="198108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number that should be in the blank s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, 4, 10, 20, 35, 56, __, __, 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043000" y="3699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84, 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228600" y="137160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 was trying to finish all her math homework on Friday. She did 3 problems the first 30 minutes, 4 problems the next 30 minutes, 6 problems the next 30 minutes, 9 problems the next 30 minutes, and so forth. If she continues to work at this rate, how many problems will she have done in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446480" y="3581280"/>
            <a:ext cx="547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 worked 30 min per problem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ork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roblems wor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228600" y="137160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 was trying to finish all her math homework on Friday. She did 3 problems the first 30 minutes, 4 problems the next 30 minutes, 6 problems the next 30 minutes, 9 problems the next 30 minutes, and so forth. If she continues to work at this rate, how many problems will she have done in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446480" y="3581280"/>
            <a:ext cx="547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 worked 30 min per problem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ork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roblems wor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29680" y="57913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432080" y="5832360"/>
            <a:ext cx="64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for a patter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28600" y="137160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 was trying to finish all her math homework on Friday. She did 3 problems the first 30 minutes, 4 problems the next 30 minutes, 6 problems the next 30 minutes, 9 problems the next 30 minutes, and so forth. If she continues to work at this rate, how many problems will she have done in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446480" y="3581280"/>
            <a:ext cx="547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 worked 30 min per problem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ork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roblems wor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by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229680" y="57913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432080" y="5832360"/>
            <a:ext cx="64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for a patter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28600" y="137160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 was trying to finish all her math homework on Friday. She did 3 problems the first 30 minutes, 4 problems the next 30 minutes, 6 problems the next 30 minutes, 9 problems the next 30 minutes, and so forth. If she continues to work at this rate, how many problems will she have done in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446480" y="3581280"/>
            <a:ext cx="547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 worked 30 min per problem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ork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roblems wor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by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by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29680" y="57913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432080" y="5832360"/>
            <a:ext cx="64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for a patter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28600" y="137160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 was trying to finish all her math homework on Friday. She did 3 problems the first 30 minutes, 4 problems the next 30 minutes, 6 problems the next 30 minutes, 9 problems the next 30 minutes, and so forth. If she continues to work at this rate, how many problems will she have done in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446480" y="3581280"/>
            <a:ext cx="547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 worked 30 min per problem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ork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roblems wor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by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by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by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29680" y="57913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432080" y="5832360"/>
            <a:ext cx="64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for a patter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28600" y="137160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 was trying to finish all her math homework on Friday. She did 3 problems the first 30 minutes, 4 problems the next 30 minutes, 6 problems the next 30 minutes, 9 problems the next 30 minutes, and so forth. If she continues to work at this rate, how many problems will she have done in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1446480" y="3581280"/>
            <a:ext cx="547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 worked 30 min per problem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ork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roblems wor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by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by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by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29680" y="57913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1432080" y="5832360"/>
            <a:ext cx="64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for a pattern. The difference between numbers increases by 1 each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228600" y="1371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1507320" y="1413000"/>
            <a:ext cx="314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worked: 3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 worked:          1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5"/>
          <p:cNvSpPr/>
          <p:nvPr/>
        </p:nvSpPr>
        <p:spPr>
          <a:xfrm>
            <a:off x="42670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5:09:12Z</dcterms:created>
  <dc:creator>vern</dc:creator>
  <dc:description/>
  <dc:language>en-US</dc:language>
  <cp:lastModifiedBy>Piper Riddle</cp:lastModifiedBy>
  <dcterms:modified xsi:type="dcterms:W3CDTF">2012-01-23T03:01:33Z</dcterms:modified>
  <cp:revision>6</cp:revision>
  <dc:subject/>
  <dc:title>Problem-Solving Strategy: Look for a pattern</dc:title>
</cp:coreProperties>
</file>